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9BA10-7741-4380-9468-9055DDE0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74C46-752C-4D4C-B4D0-9EA03950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C7D4C-5AA9-40F3-A868-673F29CB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8D577-9923-4B7B-9A52-D60BAB47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EC310-B3D5-453E-B02A-9C3F608B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DD339-76BA-4CBF-9E27-EA9FB680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E2092-B060-482D-9FC7-21E2F0CD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E5273-9768-4FB1-8270-7775C10AD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46156-EC8E-4266-94FE-4CA11A164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AD07C7-7525-4B0D-83F2-A7C6DA6C2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EA76F-8BE3-401F-A497-0D900A53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129EF-090A-4167-A852-E52F975C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53200F-0F13-4BB2-ABDB-38D1783B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3ED783-D598-4DD6-8592-5C4569B4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86240-6B45-40F8-A31F-277EDE33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71C03E-4FDA-4E6B-83DE-A5855934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27FC9D-C97C-434F-8098-84166F24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F8AC7-AB04-4A8B-A62C-A7197901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32B73-568D-42BB-84A4-40A02236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EEE3A7-7DC4-4337-B71C-4F3AD92BC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9875E-0079-4C69-910E-8D968157D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018B0-CBE8-443B-9735-2F0C1050B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C7579-9E2D-438B-88A1-FDE7C08F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5E2A61-1E4C-493F-8A49-D2802A78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B7F735-929D-4030-87F0-D119529A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461933-F126-4516-9C55-561DBFF3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70B77F-A86B-430D-BE3A-1C9B4FE5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0BE7D-5B11-4392-AFC7-002E3C94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4E17F-B52E-439E-9E9D-27BC5695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D83877-96FE-4AB0-91C5-A0542014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FA47-4D1D-46FC-B414-7AFB4815A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7B021-DBB7-4DFE-BBF3-3C73B0AE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2D2DD1-80B5-4E6F-B125-8D72DFFC4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03895E-EBB4-4D37-805D-9B4B0D0B2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600B3-2E0B-452C-BBD5-9CB0928D6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830FB-4A01-445A-8E59-7BBBE485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EA495-70F7-4960-88F3-943D246B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0EB27-F6BE-420D-BA53-CADCED09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2F269-9B13-41B6-88AF-2BCA0759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14BD6-9798-402C-964B-C62A4954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04F2B-B993-4A1C-AEFA-7431D6FB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0EE2-21F3-4FFF-8FAD-55F2EA95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2C87C-7EF7-4F83-8BEC-6ACED5C1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E0500-CCCC-415B-9E27-447D448B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518E6-A52A-49C8-843E-62579DAF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1FCFC-0A88-411A-955B-3786CB0B9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04A4C-8AF9-482A-824A-9ADC88412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E091-1BB6-45B8-9E73-754C3EED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69EB-71AE-418A-997C-FC95F5C6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C2FF-7111-475C-B062-7C24030C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403D-6144-45E4-8670-7148AD68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D6BF-C5D0-4444-B226-E2C6EC1B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95E3-DD5C-496F-8F48-3378C2EE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62A7-AA70-4722-95F1-BD58AD9F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3596-F013-46B3-B5A8-D5AAF22B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FB08-68C8-4569-B459-E9F71DD81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76B3-B66B-4B5F-8C35-14A9983E2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6BA6-9101-4143-871B-0651CA01E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6272-7D8D-40B0-BFA8-E44E84E6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9DF3-CC15-4672-B46F-8ED69CF3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69F9-FF77-495B-8332-223C64C4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1E86-61C7-40BF-BFEF-1EB97992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5E07-D2EE-4414-8AA5-69110542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DA14-66B9-4E1D-A1A6-A7D8A8F0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923B-5BE8-4A94-BECE-0EF1FA14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C79C-D5A5-4EDE-B640-671B2C3B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9B11-E7F8-41E0-94A1-E8DC63BF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3BF8-BCA7-4AA8-8EF6-E9CE6A485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4075-66BA-4375-B6A2-6B732DD6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60BFC-145B-4F60-985C-882A44199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D8ED5-F96F-41EC-8A25-5DB29AFD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DBCD0-DCA6-403E-820C-7970CF7A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303AA-F5C0-4AD7-9FCC-86D4C42D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BF4EA-DB17-49D9-B9FA-AA82DCAF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85836-EB97-4003-9606-0334E460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B43FA-2B92-428B-9AB2-6D3679DE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C1FF9-B438-4F90-BE44-1178C1BA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835DF-12F1-4E78-BB84-E4DB461B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05BF1-1AA4-42A0-A0BD-E8FEAC8A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B2871-4087-4261-BF20-673DA76B2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D6D15-F82B-461D-8F63-7CBF31A3F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8CBD4-7DE9-476B-B59D-C274EB670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4DFA6-48A5-43C6-8614-DB756E8D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48AFF-B5F4-418A-8AB0-C1653229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63094-118B-40A0-A652-BE213957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D3E8C-71A0-4558-98F7-FC55E7AA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41822-30B7-47D4-ACB5-D2AAFD00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15793-B7CE-48B2-9A25-965DAAEB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DE29E-34BD-4D1B-8703-55CA522C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A1262-F32D-4061-ABF8-694128BA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10F6A-1E88-4926-A963-93A6DA06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AA7EE-D759-4E57-BE02-224DDA913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8F49F-90AA-422F-B1F5-59D1FD902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5EAD7-2B84-41F2-B64F-EA4E1E7A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365E4-240A-4695-A73E-968837CE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AF2BD-7F73-43F9-AF51-5B381EB9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B6798-6D55-4C10-814D-ED3DC925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8E128-A937-4033-AAE2-19CD73E8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FFCA2-F1D9-4EB4-A799-096F67BE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B263F-863C-44EA-9178-24B0F82F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8F0AA-2BAC-4B33-8FB0-E482C57E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C245B-0D3C-41B7-A287-B1C4A5FC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F5F0B-EE9C-4EDF-BE0D-61D387D6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03D0A-6242-4680-AB4E-FE0122039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23847-A785-492F-915C-B7CA953DD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DA2F8-8BF5-476C-ACE8-D08AA5194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C31F6-7203-414D-8B2A-DFACE7D2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C9D09-9844-49FA-B6E9-07075AEC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C314D-4B1B-4F23-92A7-51BADDE6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C0830-E45E-45A8-B2CC-164BD09E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62F51-D920-4EDE-9636-BA46ECE7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A6659-6E70-47FB-98D5-176D747E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18E92-13DD-4F46-9081-37D5DE2E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A6C59-EAB2-4009-AC3D-EE154EF4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C9117-CD31-41D4-86A9-0397C3AC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26297-AC5C-49CC-9D96-ECEA41F06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24E6D-AEC4-434D-B1FB-023614EE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B9B59-A1FE-4AF5-82B1-B2C881454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3B5F2-9C00-442A-8004-05FDF2E6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17EB4-2356-4EA7-8676-D65ECAF5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09F35-5E47-44FB-8F8C-B552D730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67CDF-06BF-432B-AB52-E842CCB8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C4EB4-962D-4DDB-B731-54355F6F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4DBA5-4C9A-4118-B39B-60264A49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C164F-DC95-48ED-8FED-394EFB59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DA0CB-89E1-4DB1-AD56-6F74640F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8B43F-08B7-4F65-A3E7-D3C4198D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7E96E-6A4C-48F9-A447-C92EF3123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53D86-BD3C-4DE1-9646-597907144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51905-09EC-4522-9F83-9CD575A5A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CD501-23DE-4454-931F-262B8851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F945C-A159-436A-A303-CF941F55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E818-35FF-4353-B998-27E4F135AD42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146B-CFD1-4122-BE76-C4F3577E5FC8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5591-05D0-4E22-9832-4D6780C2E2A0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F005-42AE-46C4-A38A-820EF6BDAD04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847A-AAA5-4DDF-91F0-5B662F165738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2EAE-9B64-455E-897E-7D1182475FF2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2252-F4D2-4473-8AEE-02B6AF66A2D0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E196-2E0F-40C4-B7AD-186691FD5A6F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040E-1274-428C-98C5-FF917A05C636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D376-DC2F-4E54-9893-63CDFCD8EF74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4151-605F-4938-A1DC-28DAC11432A5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Marcador de contenido 3" descr=""/>
          <p:cNvPicPr/>
          <p:nvPr/>
        </p:nvPicPr>
        <p:blipFill>
          <a:blip r:embed="rId1"/>
          <a:stretch/>
        </p:blipFill>
        <p:spPr>
          <a:xfrm>
            <a:off x="-108000" y="189000"/>
            <a:ext cx="92520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7:10:58Z</dcterms:created>
  <dc:creator>Pamela Jaramillo</dc:creator>
  <dc:description/>
  <dc:language>en-US</dc:language>
  <cp:lastModifiedBy>Miriam Perez</cp:lastModifiedBy>
  <dcterms:modified xsi:type="dcterms:W3CDTF">2016-05-13T05:10:38Z</dcterms:modified>
  <cp:revision>374</cp:revision>
  <dc:subject/>
  <dc:title>Diapositiva 1</dc:title>
</cp:coreProperties>
</file>