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3E77C-94E5-4825-9B49-9F902B43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C0D30-8282-40CD-8058-786857A1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E5205-405B-4408-87A2-DE7FFAB0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ADC99-7380-4EC5-AD0F-823E63A2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84A66-4D9B-404A-891F-7EC300EF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7C792-3010-4E4A-9D69-D69EA8C2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01577-EFA8-4852-8046-F291EE02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F49E9-1FB8-4DCA-853C-94221AB6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A28D3-5107-46B8-BB18-FE24C81A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5C00D-BDF0-4B36-8313-58D7CB53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F67E4-8ED5-4E6C-885C-A5E88376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D008A-03F2-4D17-8DBB-DA1A0439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5914E-CEF6-44C4-8288-BD1FB6C8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19850-542E-4876-B1C1-B51ACA91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CEE7B-C8A6-4E3F-99B1-C73DE831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DA530-7518-452C-A196-1B5B7F14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D347F-EF33-4707-866B-B549B6F6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20BE7-B18D-4C5F-B02D-2D3EF283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3D0A0-73D1-4E45-9F20-431DF65E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C8ACB-533C-44B9-AB8E-6713240D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C57DA-5C2F-4443-858F-732FB83F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9C949-9D01-42D9-8C36-EF571A67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AC9D2-5766-4766-A871-03669AAA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DA4CB-C08C-4419-BB9F-A1F57435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36301-448A-4B85-93B0-E47882AB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48D79-5D57-41CC-9C7A-E038F5EE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A03F3-C803-4086-995D-4371A1A9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B8B19-5D42-4C63-8E33-8E8363CE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F6646-6BE3-466D-A8F8-C82B68CE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39984-6AF2-455E-94CB-950144E0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8D4-0BCF-4E99-94B5-DF8CDEB0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3C542-1E9B-4F84-95F8-E54436A4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E693E-E256-4B7F-859B-3A56DCA6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8500A-EBE7-4E6F-9743-B0D8A73E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06913-952D-4335-94E6-30C37612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CF7FE-CF46-40FE-A6C5-2AA534F3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5889E-486D-49CF-9995-EB1C969D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DB51D-8E60-413E-BE9D-6DCC96CE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BD1D1-87A9-4482-A734-CCB4F458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F81EC-D444-4681-90EC-0294D2A7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697EF-1FF3-4DD7-A043-A169FC1F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055-6CAA-4590-A51C-E6AF00E8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5C66F-7F77-4262-A5AE-29B54AF2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01CCB-B911-4D9A-9D0D-7A2201D4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912C9-C856-4EBE-AA6D-E8CF31BE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F5E3F-5BBA-4B88-BF6D-4D55146F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A1950-3646-42DA-B6C3-3CF0CDC7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A1F-D55A-406A-8B67-19D35C4E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6D3-BB95-4B19-880F-5043AF39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F00-A73D-4DD1-AD56-7A726D11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D70-C1A3-4010-BC68-8C3B33E9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A49-2E1B-4ECB-BCE8-E3F0B124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E42-799D-4485-86CD-938DD858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787-2FE8-42DA-B6DA-A68D38E5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C5D-97AF-4149-A84F-D4AFD1E6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979-A793-47A5-913A-AE909A24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EC5-4116-4619-BBF2-F459B5FB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D6A3-7CAB-4D0C-9ABC-693BF352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2C88-624C-42C6-9129-5E2C6D4C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D53F-C211-444E-AC24-5925937F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984A-A338-4136-ADB4-FAD15ABE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9BC7-315E-4948-8E29-38DEAC0F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99F5-ACDB-4394-B8D0-D7326486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29FC-AA1B-4BAD-81EC-F12D1C30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49EC-E560-401A-8678-D37037D8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89DA-1246-416C-8DE7-79F9EC0B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3409-C29C-43A3-9C71-5B4646FE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FCCB-58CD-4C29-B77D-2D470017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4FF1-58EC-4E93-8080-B1C64F7C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54A0-2483-44DD-8ED7-1925B649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37583-BDCB-4A2E-8349-2C0A37D4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F0B59-143B-4B25-A4DA-B76E061C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A1D59-607A-496B-879A-0BA9389C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D7933-DB71-4B55-9165-A8037CC3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96EF4-A7D9-4022-B1BE-DFCB5534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D317-3A5F-4740-ADC5-CC607E2C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ADD96-99AE-4F11-BF0D-D93204F1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EDF26-0563-461B-98D4-B1369968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B83A0-A0AD-47D1-968C-DBE73E0A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7A31D-B851-48E3-A222-6E24C7F1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5ED5F-DD01-420C-B506-04BA8513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13BD8-7539-4E67-B21E-207C2F44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DD99A-2852-47D5-8632-957F1F72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E7CDA-624D-4AA9-AB48-2909BA67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2289A-914C-4A81-BBFD-21D31D5D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99C58-8118-48BF-A740-A409B0A8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498A6-57DD-412B-9B37-47260D63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1DE81-499E-45DA-A948-87F31FA3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A90BE-56DF-4A98-ACBD-64E9F772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1A188-B02A-4677-9C16-99C8B41D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64D69-8F1B-45D5-A9B5-0060EF80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64DFE-26DA-48A8-B4E0-F2CDAEE1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83BDF-7561-4F99-9C92-8DC5C682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CF443-5F38-4CBB-9793-5DAEF08E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312C7-1633-43E5-B83F-1D25EFE5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41B45-41CA-43CB-B026-9E9B71FC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E655E-E5B0-4A74-9015-A5EC5A27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CAAFD-D915-45B5-8DA7-1BCDC93C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7D6EC-B25B-4FFF-9C61-BC4D3E82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7F532-D69D-4ABE-9405-0019591F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E0DC4-15CA-489D-9C0A-A51325E3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15100-73AD-4F79-AAB0-6833F1E8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37888-65CC-45FC-9B42-754562B1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6CA06-955A-4FB8-915D-3B14CA82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EAE29-2D05-4E3C-A176-EBB5865D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2A835-D711-472C-AD60-38824519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D7270-6C11-43D2-83D8-F73A193C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48067-13D6-4162-9131-AED53186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F2847-0418-4B5D-BADE-AD81B051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88EE7-48A5-4998-A7D3-0CD7A1D1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AE69C-28F6-44A6-861B-F53F6D36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943CE-F42D-4DDA-A5CC-AA5ABB2D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B764A-0E89-40EA-96E5-A6F2D770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3A330-30FC-4E16-A2FD-4B3AD52C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41B75-6E87-4AAF-8F28-6BCBCAF9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D7027-B04F-4D7E-829C-79844AAB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C9797-2457-4332-ABA8-C6524CC8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C5C88-B258-45CA-8494-EC32AE30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D22B9-1CEE-4690-AAA0-986FDE99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A9E09-635D-410A-BBF6-64C17596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FAE0F-36D9-40E0-90DE-56E77102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332F4-4597-4F58-BA9F-F155F3CB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A7E54-0669-4F09-AF9B-33EA763A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EB6AD-28A3-408C-9787-819A36C3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6FBA8-9545-4F71-A0CF-407AD908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C3421-92DD-4B27-87E7-95D953AD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A485B-B4A7-4987-8F4E-D4870050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07F7A-DC3A-4D3B-84BB-641FEA0B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655FE-D7F7-4CFB-99FA-592FB229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F12C7-0404-448C-A16F-9436058A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B9E16-588D-4EBB-BE0D-9AF89150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3BF04-E650-4000-BDD6-468CA1BB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EDA0-4005-4E98-9C51-C6A5452E36B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98D9-D3EA-4D2B-9783-49FBB4A6CCC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1788-35ED-4BC7-AB56-875B0E3E671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51D6-3EAA-42B3-A39B-1EC0BF354E4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1512-0935-41E5-84C3-8F2D8A9EB56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CE43-5B69-4E73-95D8-3728E8D98C3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339B-B090-495B-8B74-CEF759A6D2F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647A-70EA-48A1-B6CC-C523AC69D3F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BAEA-AD01-4C77-B1BB-E8C7FBA3E33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A274-BA32-48D8-8085-5A31BE8432A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CAB2-30C1-4513-83F0-CF1EFD9E79A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252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0:38Z</dcterms:modified>
  <cp:revision>374</cp:revision>
  <dc:subject/>
  <dc:title>Diapositiva 1</dc:title>
</cp:coreProperties>
</file>