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28DCC-DDCA-4885-A710-6AEABC5A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4C452-531C-4D3E-A7C4-D37C8885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BE3C3-55A1-44CC-999D-B6CCB468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CFAE6-6601-451C-BD38-4E21441A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71250-F470-4C78-A13E-ED610DBB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B30E5-4541-4880-90BD-75C01445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24518-CA80-4FFC-960D-42085B35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00A8E-3163-421F-B415-EE31D4B9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6C31D-FBE8-41F3-B5F4-C729BD5A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2149C-1FF8-4036-A56E-E2A73C0B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A71C4-76F4-4E1C-A8AA-A2F08D2F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53E6D-6AB8-4ED5-93F2-567157E3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D96F4-C421-4C66-8136-E6BCD72A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CBD6A-7A32-4CC5-96A8-0413D919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96558-0BB8-47B1-BDF5-5688E035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F50EA-BF39-4A98-808B-CF435A9A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26FB5-42D4-4C3C-A89A-CB9B5F52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4822C-0398-4973-8DA1-B0E3A308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9B5B4-4037-4E9F-BB75-5500AE10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90E6A-76EE-4284-8CAB-1D23F1F3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5E550-2F97-47A7-BED1-57EA24FE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FB6CB-30E0-4FBC-9C61-185B20CD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0AF24-3122-4133-9E0B-380DCF2D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33E11-A850-4521-8F57-FA0AFABE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0BAA7-9CCF-432F-B8B8-B3851C85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09B0B-6C10-4DDC-A498-F44DA741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93050-E7F3-4768-B545-C04959DB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5338C-1570-4A81-AB0B-BF3735EF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97333-FC1C-4F45-BB00-3DB7AD81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6F7D2-B6CC-4E85-B4DB-F9A84A86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241-123D-4E3B-9103-60B66222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A4082-AE48-49FC-9734-AB706669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DB2D5-E4E5-47DE-863D-204751CD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7BAE6-4CD1-48A1-884C-98616624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60FE3-551C-400D-9B56-2A67A518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7D6F7-107D-41D2-9535-112C51DF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81257-4A76-4DEA-A11C-6259FA7F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2A1FA-FF56-47ED-9548-9BB76251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AD3A8-A4FE-4B51-9BC1-627EC64F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44630-AC8D-4DF4-9EE9-523AC938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FB8AA-34B3-4CB7-AF7A-56ABAF78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47AC-66AA-4E4C-8E68-0573D4A5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82E73-6644-482A-AAF8-6E422319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14B35-73B6-4B1D-AB82-BB646DD0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CC226-7894-4AE8-ABDA-2C719518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ABDB9-4E43-4455-8A85-5B3AF29B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6B44E-5F82-4630-9939-B930A0B5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DFB6-15FA-4E77-B7EA-5BE4C0DA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C057-A645-48D6-A222-ACE05B39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D0D-E576-4127-A62C-D05F0587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FE4-FA2C-48C0-83DB-159AB421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7B9C-947B-43A1-A900-B577D9E1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7E7-22B9-4754-95BB-B5000D67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949-1BFF-4169-A583-8FF560D4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0FC-9440-43AE-A8EF-D66AAB92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2B3-D1BE-4883-8187-534FA0AD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CAB-6721-43C7-9407-F0ED91E4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9EEB-C2B4-414C-9CBF-564A7DD3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926B-501B-4AD8-B6F0-B103DB68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3CF4-035A-4BE0-89F3-6F56D7D5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8425-17EB-4E18-96FE-D9D20953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58C0-BF3E-4A2E-8BA9-1802E17E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22C8-DB65-48EE-B57A-2E474440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0099-CA2A-47F7-B9B5-2E68C221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BB70-88CD-4230-BE6F-3458E72D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D589-17FA-4DB7-B7F7-DD7CEAAB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6734-7EC3-4C6F-BC11-59955802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356B-6B9A-43DE-84C9-1F40CEBC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9F45-8FBA-41A9-8E90-9E36F282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FEDEB-6FF5-4F03-8AE1-737AC7E8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0B2B2-4C5C-4A57-BEF7-1BEF3BA7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DDB2A-4E35-4158-8072-C88C4526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E099A-3605-4488-B2C5-D17A9BA4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B7DFB-A3A8-4295-9567-0D8B15D4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1B22E-4869-45DC-A937-31680AAF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5E39C-D255-46F8-809C-EC6C3819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55965-B335-4913-B7E9-F6B56F65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42D75-7E99-45B3-A083-62F7FB98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E200E-C654-4632-AB3E-0C38748F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C372D-F9A7-4968-86F1-6A3EF81A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DAA9E-4349-4660-8756-D1A01D2B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2337F-2F03-459A-A959-543E7D05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2E282-701A-453B-8DE1-D07381E7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33283-65ED-4DE2-ACD1-7DB5EBCC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A56F5-F280-4CA0-9196-83BC757F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DBC62-9031-4C90-B8A0-3578DA35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FF234-727A-486C-A367-EAE7AF67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7A89A-1EE7-44A6-8CAB-30FC6072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7AFFF-2006-4FDA-A1E2-913CE942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7B22B-7A03-4AB2-9583-116ED169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455E6-99D9-4AA1-9124-E7ECD444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3B7B1-2F89-4BB7-8BA7-48CD85BB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FB68F-DE81-4140-905D-4F518663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63E73-3286-4EA3-88CB-59815938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4ADA5-51D5-4859-8BA6-15361C4E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E5B27-227E-4CB6-A20A-D11B8153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41406-46F2-47B8-B7D3-18BB0191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E9711-1FA2-4E8F-8425-3D1112CE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6EAF8-5112-4A60-8BCD-9D8147A8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14240-0DD5-4534-9843-A0987F7E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57A47-E2DA-4478-BEA7-CC756999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79D33-3463-4626-81A0-58551D86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3F258-B062-48A9-BE29-FC36E0A5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37286-4412-4CBE-91B6-0A7A1D21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7717D-E7C6-4BA9-90DC-C095C0C5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FC0F1-5001-4493-98C7-8F546255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B8446-846D-4AC0-8EE2-C7A45833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2E233-9115-4037-B39A-722EE537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06341-7148-4CD9-8249-71721E37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C44DC-988D-4B7B-A019-6333125E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E9B16-3D57-4CF0-96EA-E241077B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48C77-28DB-4389-AD93-AAE60D93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38935-2B71-4863-BFA8-7E87464C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23A15-B86A-44A2-BD58-D76EC26B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1EB8C-DBE9-4A86-B4A6-0DE2A3CB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81FCF-A109-40BD-9B88-395D40C0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3EDE7-89AD-436E-A88F-5C838B76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5C1C1-438B-4D48-BE87-F306A420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1636E-246E-4445-AB9B-8BE0B2CE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21D3A-3946-4236-8DD7-EE8A5616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424AF-6107-4E9A-AD08-8AF168B7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D836C-5733-401D-8377-865FC4EE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4A1D0-A53F-45C1-8135-2DC16C64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23623-2A65-4A62-95E0-A2F5958F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BED85-3078-45B6-BC6B-77D32101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DF1AF-2F39-4AC3-8B79-2748AE11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1573C-C086-40CD-83B0-7CB18FED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18AD8-FC51-4312-8D0A-A5783645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66DEC-FC90-41EB-A1B0-A6F40D30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0AA57-51B2-403C-B617-D0DE6546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AD193-AAC3-467C-9A89-CD5085D2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5486A-50C9-4C29-87D1-7D224E56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DF2E-B2BA-42E1-B38A-5F980D341E2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0F11-45AB-4D4B-A1F4-0E89A2C7E9B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8F0A-442A-400A-97DC-FB0EE60744D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5CE9-EB39-4538-82CA-62403456C7A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835C-2044-447A-8FA9-6582BAEEEBA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9BC2-320D-48FF-B487-12716E22DEE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CCC7-F166-4A38-966C-09CBAF5A18D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4419-0519-425C-BB26-012C744456A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7542-9B30-4186-B089-7951C0434F8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0BC2-8B75-45E7-B5DC-C8CF2B21529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286D-420F-4DC9-B113-F3883890EEA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-108000" y="189000"/>
            <a:ext cx="92520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0:38Z</dcterms:modified>
  <cp:revision>374</cp:revision>
  <dc:subject/>
  <dc:title>Diapositiva 1</dc:title>
</cp:coreProperties>
</file>