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CE48EA-4A25-4A3C-902B-194A03D7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0A62D6-22EC-4B00-AB28-A5526D2F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34A0D-BD0C-49DE-8263-66EEE2DA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54CF0-E523-4F08-8380-36050791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5FC074-345C-4C5F-8579-73184069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81E9E-796B-43B4-AC84-B5C884B4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442BD-8212-47E0-B491-9EE912AA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B45F9-A8D1-448A-9046-2064B4E9D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10024-AA2F-4F87-ACC1-35A79359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929F93-3B0E-43D2-9A72-95BC877F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38006-CC9D-4A25-A417-0FD9A61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5093E-31DE-452A-93D2-7BDF5EAA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282F4-BA54-40B6-A612-82D23722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DD391-303A-40D0-9ED8-2C0F500B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6862D9-0BC9-4684-8C81-FFE978BE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E008C-B1B5-47EA-964C-E2FAB3AFC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C2A4D-DD5F-4638-B67A-A25756DE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237F1-25F5-4BA7-99A7-80D390F4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34CEAE-40A5-4892-8F8E-E97BD9B8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57447-1488-49BA-986E-B7B23136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98C7-8F82-4332-9B69-0BE6E1B83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788D08-B2FE-4433-9DC4-0BBEAD97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CBE6D-02F2-4388-9821-51FA2EC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8447B-C297-4832-ABC0-CD83DC0C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269D3-30E6-4334-B0E6-48881A72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C991FB-F562-4BFC-9270-62FB0DA3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A2A84-6FA8-4DA2-A65F-554441AC1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558F19-F500-4ABD-BD81-03096C9A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681E8-FCD9-457A-A1BF-9B6AA0DC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D97982-A652-42C1-B222-831AB81A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7F9-54EA-4482-97B6-EFE45FAD3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08838-8AEA-46BB-8D5D-2283C522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B27618-D855-4ECD-88F5-B8F141C0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B38120-99DB-4BC7-A37D-B572E28D1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1732F-343D-40C5-949E-964220BBA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F598FF-668D-4276-8B86-D5236EA0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356A2-A481-47ED-B423-FB513712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EB484-B111-41BF-A11C-1D3B92D6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DC295C-44B6-4CCC-88A3-ED9D3891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52D086-1BCA-401D-BC02-9210465F3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FD7CDA-7520-4E84-B2CC-EF5462F8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BB18-8513-4F3C-88A5-C8E921A1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A958E-719E-4C31-84BA-432C2B01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75F74-8394-4993-A82A-921BE14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5CC7FD-7FE9-4E05-96B0-F7C3F890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C74C97-5E29-4541-BF93-1C4DFB4AC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14884C-D4BB-4D27-8151-B0D4A9093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05E3-4276-434F-BB91-780F84DD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142D-EB35-412C-9E43-19971C74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CF0-F09B-4F61-8D08-A968E0F9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3A17-2911-49F5-81E1-9533C9174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FC94-71FF-4D78-97C8-E97A1A2BF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DA96-300A-4BA3-9ED2-505D1466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9E8E-0A31-400C-A716-D1553A65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134-B8AB-41B9-A908-A3245481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F020-0E6D-4DA7-8E3F-6AC419FE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BA06-1EF8-4DF2-98C8-D64305426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486DE-9C31-4A82-9CA0-3A5A76C5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71C6-B48F-4505-A8DA-51DE6DC6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4CC0-08C7-4CF2-82FE-CD62675D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1D68-A344-41DE-8CF0-B5F7F145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631-CFF4-4902-B891-57C21584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BF770-AC9B-4098-87C5-CE18DDFC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24DA3-3CB4-4F0A-8246-8FA342D8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E323E-A8BA-4B2F-A3F9-1140EDA5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B435D-7597-4856-9BDF-B9B5345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FA05-069E-4FBA-8A4D-8D7CCDD4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A8630-DEC5-4ECC-A5DE-CD56BE66B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48E9D-019D-4C4A-9BE9-DE3AACA9C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5FCAA-7929-4135-ADE9-75D792FF5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3F046-E14C-46ED-B237-D93158BD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510C1-71B7-44C4-83CB-5B5F5808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6CB7-7716-42C9-B7F6-C1BDAA6F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53C7-DCA8-4D54-949A-0C0A8CE7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CA3EB-AB58-4013-9B4E-F44AE9C3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25339-94AF-4D14-93AB-35B568B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3DFD5-AC7A-4DC3-B2FC-44F9A422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51CCC-5420-4FA0-854D-97DB2B35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7AD4D-74E4-431E-89B9-41C07222B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9471-BAFE-462C-9EC2-D4F0D726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3E4C5-A456-4E3D-B7DF-897556A5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29C01-C7BD-4418-9E12-520C52862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92245-5C5D-4A4D-BE16-AD63E88F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AB638-8A49-400D-B11E-F68DD00A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8ACE2-6A62-410F-B10B-0B366EBA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94E99-AB4B-4D89-A488-41A0EC74D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D1677-79C9-4C0D-B3B0-B0111B06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8528E-121A-404B-ADC1-A6AE84C8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6088F-E8CC-4093-B500-1B27907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9D993-548C-4F09-8AED-AE950945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AABB0-8043-49A2-A995-0B3E71D6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93FFA-7907-436B-A87E-6686A75E5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BF122-5AC0-4379-A42B-F69DD14A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64532-EB08-4D71-BB4B-CAB083132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38FC-B614-4357-8B96-7C5007C2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DABF1-6601-4441-8B0E-A09DDE1AD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241C-042F-4F03-A525-F0CDCEFA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D7789-2616-4C40-9F92-DBBA6534C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AF270-7A07-4BA9-B581-8E0DFC43E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6109A-A606-4D7B-B57D-C8A36298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7C1847-B0B1-4DE5-8DA0-B6B85DBA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7978E-F87D-44E4-857E-0C19C6F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09B1E-0443-4826-AEDE-69CBDA44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7B6D2-7E50-4CD5-A0F1-F2A09326A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55E98F-B116-4B05-A459-37BE6DFF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E3BF6-0DB0-4365-BAFE-D68149C02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4EC66-3CCF-48B7-B78C-05EB4175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FF416-B908-4FFE-BE08-7ED2DC4C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46DBC8-FC4F-4F95-AA5F-B73B1F25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E1B97-CAB4-40B5-A8CE-B85CA867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79B8A0-4DD1-4AD9-B23A-EA657AF1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68AFA6-C0AE-4ED7-B9B1-79ECDDB4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5CF2E-C7A7-4823-B058-684DA18D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9168F-7089-4B20-B20A-DEB20FE3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9FDD-C4A4-47D4-A331-83F971CAE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8C246-E9D6-4EDF-AF22-80587FD1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D4A13-D671-4BB4-8074-D95CD3D0B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7AF27-F17C-4442-8CD1-79E430F7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2718A-7EBC-4091-93C8-94B3D2B7E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07AF-9CC5-4AA8-BAB1-953749A3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08F6-79B3-4BD6-A190-D1555A0C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1FA2D9-22B6-4292-9FF0-357775A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FD23E6-B154-4840-AFBD-85EF952D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BA41A-8614-4B37-9BC8-DAF9B9B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41A2D-BF88-48E9-9DB4-42394719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C9D4-22F1-40DA-898A-233EC29F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B6502-7C20-47C8-904A-376417A33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C13E4-6FA6-4191-953C-4AF40B33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D90E6-9490-4EA0-89E1-D46A68BED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AFAEF-F95E-41C6-90D6-CAB367900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76CB2-6D90-4D8F-AD97-C0582195F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596D4-CF5C-4DD5-962A-EDFE4451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E99A-E7CB-4BA3-A83F-A1254BD3278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6AC0-C82B-499C-B4D2-0F0FED34C238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BF19-5D53-4EC3-95B8-D525F281276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2C0AB-3841-4EDB-911D-A21C75C1CEC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B20EA-259E-4FAF-9998-B4CAFF2491D3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9497-665D-4B06-9B8B-E3C5B29FECA6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3625-8B6A-4DFE-9616-783126F8B45F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7A3F-5A8A-4C05-A6CE-853A0CAD144E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37DF5-2EA0-4EF7-A36B-2A38B40B821D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E2C6C-AFA4-4DBC-8ED3-416E5C4ECC97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6 Imagen" descr="plantill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8C60-EC22-4D32-BA25-067B0D1A54F5}" type="slidenum"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Marcador de contenido 3" descr=""/>
          <p:cNvPicPr/>
          <p:nvPr/>
        </p:nvPicPr>
        <p:blipFill>
          <a:blip r:embed="rId1"/>
          <a:stretch/>
        </p:blipFill>
        <p:spPr>
          <a:xfrm>
            <a:off x="-108000" y="189000"/>
            <a:ext cx="925200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7:10:58Z</dcterms:created>
  <dc:creator>Pamela Jaramillo</dc:creator>
  <dc:description/>
  <dc:language>en-US</dc:language>
  <cp:lastModifiedBy>Miriam Perez</cp:lastModifiedBy>
  <dcterms:modified xsi:type="dcterms:W3CDTF">2016-05-13T05:10:38Z</dcterms:modified>
  <cp:revision>374</cp:revision>
  <dc:subject/>
  <dc:title>Diapositiva 1</dc:title>
</cp:coreProperties>
</file>