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DAB54-822A-47C2-AAF3-32BE9CDAC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0E592-7957-4EA2-9D39-93DE3A4E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45E13-D07F-4C42-895A-97F3B797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E3F72-17A7-4A39-995F-32668920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019E2-6D91-4881-B096-B1AC626B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28392-902D-4A88-84A9-4A14B02A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FA732-23AB-4393-96C6-8E9F8E33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E63681-9828-4C8D-A6C8-9DA5C3BFC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036F11-05CF-41A3-8152-0D647AEB1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5EA2A-64E1-43F4-9571-46BB5182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AF0CE-E564-41E3-AD5B-265AEBB6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C68638-AA51-4EF1-A278-918DEF9C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6895D-EE9E-473E-8D20-99D7F8A6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D4FB32-18C3-4EB2-8F70-171361B6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46405-A4D9-42D2-A416-BCACBEB5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1A9E5-D753-43DE-A9BD-67D0FCCF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31301F-4655-4A2A-816D-1BC0C8BB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6106B2-E6DF-4687-95D7-1931552D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606706-2B65-4884-85A1-674D4A077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36DD0A-643D-46EC-B509-C08330D1F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33999C-5C37-475C-B084-01D46B817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D3D8E5-316D-4DC0-8CE4-1EE7DBD24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D3B7B-C031-44F5-AD6D-1E933733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2FD654-C766-4795-A979-591518DE0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929E84-9C6D-4E90-A399-3044D612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CA1E3-9DBA-477B-B5D4-A3EE0F09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15FD2-0B53-4646-A9FF-94D351C25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5B9FFE-7B0A-4A53-97F6-02074A9C1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2AB45C-0C32-490E-A6F6-EB620ABA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600EAF-133D-45F6-91D7-D1288913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EE49-FF76-43B0-AE33-45AAC1354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5CE8D8-FEDF-4353-9489-487666DA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95C3C9-6926-48D8-B06D-E529F6F2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907ED-3F46-44FF-A844-83DFC1144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E0294F-4787-462B-B727-B790953A5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1DEF8-758D-4D37-A65C-3E2A8955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6B032-CCE9-4EE3-9372-FD4F48CC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75B77E-26CE-4B9F-A30F-CC902651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416A0-D87F-4F5E-B02B-40DF1EA4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0EB5E-E36B-49F7-8290-2725AFA9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DDEA1-438D-46DF-9AE0-B21B0EB77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C59F-A957-4F48-A16A-65EBFB1C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D4D0C-FDC4-449F-9C69-7482FED8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A17F6-603B-4999-AD8A-96D15B87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1EB07-E5CB-4E3E-923B-810E5AC05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4A258-A3C4-472B-ABF9-A126BE324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07EDF7-B243-4F0F-9785-E8B7E270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2E8A-C1B0-432A-8824-647152F8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A5B1-3070-4BDE-94CB-1810B957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817C-9A10-40C0-89B5-D9FD7353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191E-2B71-4872-9EA7-182A731E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098D-4A4A-4F30-9892-6F567900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B452-B50E-43AF-AD38-4ADB4E5C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842C-6447-4787-A1A8-224AB2351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E723-884B-417B-8203-2D835565C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FA60-1D3B-496D-9493-747F49806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8202-AF72-42C1-9461-FF230D06F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A6EE-5C42-42D8-97C2-15EB810B5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1CC7-268E-4223-8DE3-CB7DEBFC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80F9-6587-45E3-992D-FA66A21C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2FDE-31E5-4AA8-81B4-895225D2D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0C76-688D-4D84-A9F7-4F0B23CF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39C3-21C1-40EA-96A6-72BB64ED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6FC0-3326-4740-A076-BF9C8BE0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0BD5-81CE-4049-909B-43CD5BA9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67827-1016-47CD-90AA-64B875D2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F39E-1891-4987-8967-A1332FD7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8739-282A-4B9C-AABC-F7860E39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28D7-80B9-41DF-BF8F-728C854BB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789ED-4771-4D67-A5BB-0E808D0F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6FCA1-992C-4774-8644-02A31BC7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EBCE8-F2ED-40A4-A44D-5CACF858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42F78-B611-4EA6-98A4-724F91CE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A620FF-6197-480D-88FC-C783EFD6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29AE4-E0F5-497F-8D6F-D0A2576C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937CE-3CBA-41B3-AFBF-623682FF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1C74F-8BF8-402B-BB95-2268B260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2522B-354F-462E-AE54-7FEC5F0B2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A7C86-B595-465D-8E20-8D5A2574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B266D-88E7-491A-B6EE-F9C0D7B2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AD421-972C-4E4D-86BE-DE8A66410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B461E-875B-40FB-AA09-616F4C7EF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D8C3D-542E-4ACE-88C3-6136C108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8D4A8-C47C-4E53-9A32-20518459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FD1946-C22E-4DEA-9DB0-0B955CD4B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A7FA6-3035-4F66-83A3-53352BBD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A2EEF-1E12-4962-827F-1E920478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84704B-C3FE-46D4-AE4C-43E08675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AAE162-0952-4968-8D39-841591EC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6A49F-DC41-48F2-ADEB-E8564E05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76F42-7671-4A62-86E3-A8D9F1F4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20244-18BF-4F17-A9DA-28C8AEBFA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65D8F-72F6-47AF-85D9-BF2E5CDE6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D76E6E-37CD-413D-B77F-E11F31DE0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06D4B-0C1C-4F7C-A175-478CAA7E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7BFCF-5994-4125-BE50-F8755E110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E4796-72FC-4D4F-8C9D-EA75DD55B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F1088-8AB9-4831-81FB-796ADC40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85DAB-3183-4B18-A31A-716B27E0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BAF91-8346-406C-A886-9FBA239B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50830-C25B-4D6B-9E58-FD268FFE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E7C73-4184-4228-A1DB-29BA1A1C5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E5C51-7D07-474F-8113-93B1D174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F1DBF-B3C4-4052-984C-7FB92BE74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102B7-A6C8-402A-B003-703D04E61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32EC0-49B5-4716-AD64-8CD370692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3759D-5DB6-4CB8-A296-A6E3642C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49494-F54C-4AE3-BE90-5B5AB4BD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41EFC-583F-4676-ACFE-97BD3342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DE54F-BD30-4E91-9541-7C417D37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298778-18E0-48EC-BB81-1D7A86728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14D8E-0CDF-4994-99B5-56EF6D138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ABCD7-2746-41C0-BE6E-9BF26618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74214-37DC-43CB-BF64-6F85BB80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F71CA-109B-4539-BB22-4C6A352F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7FBC4-9B4A-4D61-9BB4-7EA8401F7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137F85-6DE6-4DC7-BF45-483E4981C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E86277-8677-460A-8FAA-EECC6ED9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78201-3D5F-4480-87FC-62CA08F2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F7C67-E597-4352-9794-B41AF1A9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935E7-87EE-4291-83DB-40D3F937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5D993-F698-4422-A785-3C82693D5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73B77-CB8D-4D1D-BF51-9D37E80E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EF3976-4711-4248-9DEB-C42DB715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E30AE-13CE-4727-A8ED-D5B304FF6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21B42-516C-493B-951D-E434EA56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56F1F7-2786-4CCF-973C-3CFB56DE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A4FC0-1846-4E4C-8A28-548FC704D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DC5F2D-183D-4A3B-919F-8D978E48B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72C2B-EFDD-4551-BDDA-0580A04B4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27B67-0C0B-409C-B523-307E18B5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B6C01B-7B27-47A7-92F1-AD325F87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6E4D-0BA2-4002-AB27-98FA049FE430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20143-2E86-4C19-9FBA-F897579A1514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3DE3-79ED-4896-A8E5-4DCB612252A3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D8DA6-C169-48B2-AC55-BB44FE2D969C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4ACF-C111-4547-940A-89B2B5FA917F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7DC7F-6BE5-40DB-8694-97F40A43B45F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88DD-A548-47C9-A9FA-F4826EA45CF2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75883-81AB-4EB9-99ED-0212C766ADD9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70062-EE07-4DD3-86B4-CCE9BF12DB0A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4D01-547E-49FC-B507-29E2FE5754C5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4E71-88EC-4B83-8A2F-2C806A132841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Marcador de contenido 3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975280"/>
          </a:xfrm>
          <a:prstGeom prst="rect">
            <a:avLst/>
          </a:prstGeom>
          <a:ln w="0">
            <a:noFill/>
          </a:ln>
        </p:spPr>
      </p:pic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79360" y="0"/>
            <a:ext cx="8585280" cy="6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7933c"/>
                </a:solidFill>
                <a:latin typeface="Eras Demi ITC"/>
              </a:rPr>
              <a:t>I</a:t>
            </a:r>
            <a:r>
              <a:rPr b="1" lang="es-ES_tradnl" sz="2800" spc="-1" strike="noStrike">
                <a:solidFill>
                  <a:srgbClr val="953735"/>
                </a:solidFill>
                <a:latin typeface="Calibri"/>
              </a:rPr>
              <a:t>DENTI</a:t>
            </a:r>
            <a:r>
              <a:rPr b="1" lang="es-ES_tradnl" sz="2800" spc="-1" strike="noStrike">
                <a:solidFill>
                  <a:srgbClr val="1f497d"/>
                </a:solidFill>
                <a:latin typeface="Chiller"/>
              </a:rPr>
              <a:t>DAD</a:t>
            </a:r>
            <a:r>
              <a:rPr b="1" lang="es-ES_tradnl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s-ES_tradnl" sz="2800" spc="-1" strike="noStrike">
                <a:solidFill>
                  <a:srgbClr val="604a7b"/>
                </a:solidFill>
                <a:latin typeface="Arial Narrow"/>
              </a:rPr>
              <a:t>SOCIA</a:t>
            </a:r>
            <a:r>
              <a:rPr b="1" lang="es-ES_tradnl" sz="2800" spc="-1" strike="noStrike">
                <a:solidFill>
                  <a:srgbClr val="604a7b"/>
                </a:solidFill>
                <a:latin typeface="comic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Marcador de contenido 3" descr=""/>
          <p:cNvPicPr/>
          <p:nvPr/>
        </p:nvPicPr>
        <p:blipFill>
          <a:blip r:embed="rId1"/>
          <a:stretch/>
        </p:blipFill>
        <p:spPr>
          <a:xfrm>
            <a:off x="158760" y="1670040"/>
            <a:ext cx="8997840" cy="478620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6"/>
          <p:cNvSpPr/>
          <p:nvPr/>
        </p:nvSpPr>
        <p:spPr>
          <a:xfrm>
            <a:off x="155520" y="-1287360"/>
            <a:ext cx="404820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AutoShape 8"/>
          <p:cNvSpPr/>
          <p:nvPr/>
        </p:nvSpPr>
        <p:spPr>
          <a:xfrm>
            <a:off x="155520" y="-1287360"/>
            <a:ext cx="404820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AutoShape 18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AutoShape 2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AutoShape 2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9" name="Picture 12" descr="http://www.campamento.lebal.es/wp-content/uploads/2011/06/Metodologia.jpg"/>
          <p:cNvPicPr/>
          <p:nvPr/>
        </p:nvPicPr>
        <p:blipFill>
          <a:blip r:embed="rId2"/>
          <a:stretch/>
        </p:blipFill>
        <p:spPr>
          <a:xfrm>
            <a:off x="324000" y="1989000"/>
            <a:ext cx="1666800" cy="90504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32" descr="http://200.116.126.171/cacvirtual/images/metodologias.png"/>
          <p:cNvPicPr/>
          <p:nvPr/>
        </p:nvPicPr>
        <p:blipFill>
          <a:blip r:embed="rId3"/>
          <a:stretch/>
        </p:blipFill>
        <p:spPr>
          <a:xfrm>
            <a:off x="36360" y="4840200"/>
            <a:ext cx="2341800" cy="1255680"/>
          </a:xfrm>
          <a:prstGeom prst="rect">
            <a:avLst/>
          </a:prstGeom>
          <a:ln w="0">
            <a:noFill/>
          </a:ln>
        </p:spPr>
      </p:pic>
      <p:pic>
        <p:nvPicPr>
          <p:cNvPr id="491" name="Imagen 4" descr=""/>
          <p:cNvPicPr/>
          <p:nvPr/>
        </p:nvPicPr>
        <p:blipFill>
          <a:blip r:embed="rId4"/>
          <a:stretch/>
        </p:blipFill>
        <p:spPr>
          <a:xfrm>
            <a:off x="623880" y="3265560"/>
            <a:ext cx="1068480" cy="1066680"/>
          </a:xfrm>
          <a:prstGeom prst="rect">
            <a:avLst/>
          </a:prstGeom>
          <a:ln w="0">
            <a:noFill/>
          </a:ln>
        </p:spPr>
      </p:pic>
      <p:sp>
        <p:nvSpPr>
          <p:cNvPr id="492" name="Rectángulo 1"/>
          <p:cNvSpPr/>
          <p:nvPr/>
        </p:nvSpPr>
        <p:spPr>
          <a:xfrm>
            <a:off x="2771640" y="6021360"/>
            <a:ext cx="62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C" sz="900" spc="-1" strike="noStrike">
                <a:solidFill>
                  <a:srgbClr val="000000"/>
                </a:solidFill>
                <a:latin typeface="Calibri"/>
              </a:rPr>
              <a:t>http://es.slideshare.net/faropaideia/psicologa-social-autoconcepto-e-identidad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90288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76092"/>
                </a:solidFill>
                <a:latin typeface="Calibri"/>
              </a:rPr>
              <a:t>IDENTIDAD SOCI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7:10:58Z</dcterms:created>
  <dc:creator>Pamela Jaramillo</dc:creator>
  <dc:description/>
  <dc:language>en-US</dc:language>
  <cp:lastModifiedBy>Miriam Perez</cp:lastModifiedBy>
  <dcterms:modified xsi:type="dcterms:W3CDTF">2016-05-13T05:11:48Z</dcterms:modified>
  <cp:revision>374</cp:revision>
  <dc:subject/>
  <dc:title>Diapositiva 1</dc:title>
</cp:coreProperties>
</file>